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wmf" ContentType="image/x-wmf"/>
  <Override PartName="/ppt/media/image3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gif" ContentType="image/gif"/>
  <Override PartName="/ppt/media/image25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6.jpeg" ContentType="image/jpeg"/>
  <Override PartName="/ppt/media/image18.wmf" ContentType="image/x-wmf"/>
  <Override PartName="/ppt/media/image21.png" ContentType="image/png"/>
  <Override PartName="/ppt/media/image16.gif" ContentType="image/gif"/>
  <Override PartName="/ppt/media/image14.wmf" ContentType="image/x-wmf"/>
  <Override PartName="/ppt/media/image1.jpeg" ContentType="image/jpeg"/>
  <Override PartName="/ppt/media/image27.gif" ContentType="image/gif"/>
  <Override PartName="/ppt/media/image22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B0B-0F0F-4E09-AF8F-5BA7CC27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7BD-17EE-411F-B48F-7549CEDB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AEF-F877-46BF-B7CF-337F2C82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874-0196-4A97-82BC-C52E5E6D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BD70-4663-42CD-8D6C-51ACAAC8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1D95-7A2E-4418-8B0C-9F4696E6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A140-6EB5-4E35-9022-60434192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80B7-58FD-42E2-AC31-81C5A242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7CE5-5B81-4588-BD67-98D0CEE9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270C-87E2-4E90-AB34-75D71B94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9D44-FB67-4303-B86B-5C91A782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1444-7E44-4FD0-8D8E-A02203FD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E877-555B-4429-9CD1-709E610A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DC9E-F31A-44A1-AE37-F7765BF6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5ADE-7F00-497D-9AF4-4EB08927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9803-B810-41E0-9847-99075F8B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43FE-D72E-439F-875E-95FD5360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F31-D719-4BC3-8BFA-D5B4CF9C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C19-A0CB-4428-8886-9ECDC70C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B84-F0AC-4195-A760-0629DAFF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F9BD-6138-49E2-81DE-4D9339AC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7A9-A526-40B9-9AEF-17243133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618D-E781-45A8-9013-F71385FC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C7F-4C8B-4D64-A1A1-DC22DBE9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8A69-AAEB-4D4D-A3AE-8E7226FA0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1EC5-04DF-4310-898A-05CFF7CDC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4.gi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usport.gov.au/" TargetMode="External"/><Relationship Id="rId3" Type="http://schemas.openxmlformats.org/officeDocument/2006/relationships/hyperlink" Target="http://www.ausport.gov.au/" TargetMode="External"/><Relationship Id="rId4" Type="http://schemas.openxmlformats.org/officeDocument/2006/relationships/hyperlink" Target="http://www.find30.com.au/" TargetMode="External"/><Relationship Id="rId5" Type="http://schemas.openxmlformats.org/officeDocument/2006/relationships/hyperlink" Target="http://www.walkingbus.com/" TargetMode="External"/><Relationship Id="rId6" Type="http://schemas.openxmlformats.org/officeDocument/2006/relationships/hyperlink" Target="http://www.walkingbus.com/" TargetMode="External"/><Relationship Id="rId7" Type="http://schemas.openxmlformats.org/officeDocument/2006/relationships/hyperlink" Target="http://www.newhealth.govt.nz/" TargetMode="External"/><Relationship Id="rId8" Type="http://schemas.openxmlformats.org/officeDocument/2006/relationships/hyperlink" Target="http://www.newhealth.govt.nz/" TargetMode="External"/><Relationship Id="rId9" Type="http://schemas.openxmlformats.org/officeDocument/2006/relationships/hyperlink" Target="http://www.10000steps.org.au/rockhampton/" TargetMode="External"/><Relationship Id="rId10" Type="http://schemas.openxmlformats.org/officeDocument/2006/relationships/hyperlink" Target="http://www.travelsmart.gov.au/" TargetMode="External"/><Relationship Id="rId11" Type="http://schemas.openxmlformats.org/officeDocument/2006/relationships/hyperlink" Target="http://www.travelsmart.gov.au/" TargetMode="External"/><Relationship Id="rId12" Type="http://schemas.openxmlformats.org/officeDocument/2006/relationships/hyperlink" Target="http://www.who.int/" TargetMode="External"/><Relationship Id="rId13" Type="http://schemas.openxmlformats.org/officeDocument/2006/relationships/hyperlink" Target="http://www.who.int/" TargetMode="External"/><Relationship Id="rId14" Type="http://schemas.openxmlformats.org/officeDocument/2006/relationships/hyperlink" Target="http://www.heartfoundation.com.au/" TargetMode="External"/><Relationship Id="rId15" Type="http://schemas.openxmlformats.org/officeDocument/2006/relationships/hyperlink" Target="http://www.heartfoundation.com.au/" TargetMode="External"/><Relationship Id="rId16" Type="http://schemas.openxmlformats.org/officeDocument/2006/relationships/hyperlink" Target="http://www.vichealth.vic.gov.au/" TargetMode="External"/><Relationship Id="rId17" Type="http://schemas.openxmlformats.org/officeDocument/2006/relationships/hyperlink" Target="http://www.vichealth.vic.gov.au/" TargetMode="External"/><Relationship Id="rId18" Type="http://schemas.openxmlformats.org/officeDocument/2006/relationships/hyperlink" Target="http://www.beactive.com.au/" TargetMode="External"/><Relationship Id="rId19" Type="http://schemas.openxmlformats.org/officeDocument/2006/relationships/hyperlink" Target="http://www.beactive.com.au/" TargetMode="External"/><Relationship Id="rId20" Type="http://schemas.openxmlformats.org/officeDocument/2006/relationships/hyperlink" Target="http://www.goforyourlife.vic.gov.au/" TargetMode="External"/><Relationship Id="rId21" Type="http://schemas.openxmlformats.org/officeDocument/2006/relationships/hyperlink" Target="http://www.goforyourlife.vic.gov.au/" TargetMode="External"/><Relationship Id="rId22" Type="http://schemas.openxmlformats.org/officeDocument/2006/relationships/hyperlink" Target="http://www.cdc.gov/nccdphp/dnpa/physical/health_professionals/index.htm" TargetMode="External"/><Relationship Id="rId23" Type="http://schemas.openxmlformats.org/officeDocument/2006/relationships/hyperlink" Target="http://www.phac-aspc.gc.ca/hp-ps/index.html" TargetMode="External"/><Relationship Id="rId24" Type="http://schemas.openxmlformats.org/officeDocument/2006/relationships/hyperlink" Target="http://www.nphp.gov.au/workprog/sigpah/" TargetMode="External"/><Relationship Id="rId25" Type="http://schemas.openxmlformats.org/officeDocument/2006/relationships/hyperlink" Target="http://www.nphp.gov.au/workprog/sigpah/" TargetMode="External"/><Relationship Id="rId26" Type="http://schemas.openxmlformats.org/officeDocument/2006/relationships/hyperlink" Target="http://www.nphp.gov.au/workprog/sigpah/" TargetMode="External"/><Relationship Id="rId27" Type="http://schemas.openxmlformats.org/officeDocument/2006/relationships/hyperlink" Target="http://www.cdc.gov/HealthyYouth/" TargetMode="External"/><Relationship Id="rId28" Type="http://schemas.openxmlformats.org/officeDocument/2006/relationships/hyperlink" Target="http://www.cdc.gov/HealthyYouth/" TargetMode="External"/><Relationship Id="rId29" Type="http://schemas.openxmlformats.org/officeDocument/2006/relationships/hyperlink" Target="http://www.cdc.gov/HealthyYouth/" TargetMode="External"/><Relationship Id="rId30" Type="http://schemas.openxmlformats.org/officeDocument/2006/relationships/hyperlink" Target="http://www.americaonthemove.org/" TargetMode="External"/><Relationship Id="rId31" Type="http://schemas.openxmlformats.org/officeDocument/2006/relationships/hyperlink" Target="http://www.americaonthemove.org/" TargetMode="External"/><Relationship Id="rId32" Type="http://schemas.openxmlformats.org/officeDocument/2006/relationships/hyperlink" Target="http://www.ijbnpa.org/home" TargetMode="External"/><Relationship Id="rId33" Type="http://schemas.openxmlformats.org/officeDocument/2006/relationships/hyperlink" Target="http://www.ijbnpa.org/home" TargetMode="External"/><Relationship Id="rId34" Type="http://schemas.openxmlformats.org/officeDocument/2006/relationships/hyperlink" Target="http://www.ijbnpa.org/home" TargetMode="External"/><Relationship Id="rId35" Type="http://schemas.openxmlformats.org/officeDocument/2006/relationships/hyperlink" Target="http://www.health.gov.au/internet/wcms/publishing.nsf/content/home" TargetMode="External"/><Relationship Id="rId36" Type="http://schemas.openxmlformats.org/officeDocument/2006/relationships/hyperlink" Target="http://www.healthyactive.gov.au/" TargetMode="External"/><Relationship Id="rId37" Type="http://schemas.openxmlformats.org/officeDocument/2006/relationships/hyperlink" Target="http://www.healthyactive.gov.au/" TargetMode="External"/><Relationship Id="rId38" Type="http://schemas.openxmlformats.org/officeDocument/2006/relationships/hyperlink" Target="http://www.nphp.gov.au/" TargetMode="External"/><Relationship Id="rId39" Type="http://schemas.openxmlformats.org/officeDocument/2006/relationships/hyperlink" Target="http://www.nphp.gov.au/" TargetMode="External"/><Relationship Id="rId40" Type="http://schemas.openxmlformats.org/officeDocument/2006/relationships/hyperlink" Target="http://www.beactive.com.au/" TargetMode="External"/><Relationship Id="rId41" Type="http://schemas.openxmlformats.org/officeDocument/2006/relationships/hyperlink" Target="http://www.beactive.com.au/" TargetMode="External"/><Relationship Id="rId42" Type="http://schemas.openxmlformats.org/officeDocument/2006/relationships/hyperlink" Target="http://www.sport.vic.gov.au/" TargetMode="External"/><Relationship Id="rId43" Type="http://schemas.openxmlformats.org/officeDocument/2006/relationships/hyperlink" Target="http://www.sport.vic.gov.au/" TargetMode="External"/><Relationship Id="rId44" Type="http://schemas.openxmlformats.org/officeDocument/2006/relationships/image" Target="../media/image3.png"/><Relationship Id="rId4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834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653080" y="2349360"/>
            <a:ext cx="3211560" cy="388800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395280" y="2349360"/>
            <a:ext cx="3097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x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lson Physical Education VCE Units 3&amp;4: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Malpeli, Horton, Davey and Telfo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ve It Up 2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Smyth, Brown, Judge, McCallum and Pritcha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851280" y="2492280"/>
            <a:ext cx="1255680" cy="1657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851280" y="4581360"/>
            <a:ext cx="121284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3213000"/>
            <a:ext cx="74055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Arous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26560" y="4220640"/>
            <a:ext cx="80614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ous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4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us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readiness or activation a person experiences when faced with a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hletes need an optimal level of arousal to experience su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ate level is ideal z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. Arousal levels and performance outc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y in athl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4537080" cy="252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48360" y="3624120"/>
            <a:ext cx="3600360" cy="2541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6588000" y="189000"/>
            <a:ext cx="23050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d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page 318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13.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62120" cy="73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3 page 314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280" y="3213000"/>
            <a:ext cx="74055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Arousal Regu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360" y="4365720"/>
            <a:ext cx="8061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ousal Regu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sa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du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chniqu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essive muscle relaxation (PM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th control – Used to relax and re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feedback – Sensors detect raised tension or stress in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ss-inoculation training (SIT) – Building immunity to stress via trai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sa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mo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qu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vated breathing rate – Increases state of awareness in C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 energ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talk and sounds: ‘Talk it Up!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ising imag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competition work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194600" y="4508640"/>
            <a:ext cx="1673280" cy="198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5 page 319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3213000"/>
            <a:ext cx="74055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Mental Image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4360" y="4365720"/>
            <a:ext cx="8061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tal Image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864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ental Imagery, or visualisation, is used by athletes when they imagine themselves performing skill before actually doing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t is a form of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ensory experience which occurs in the mind via tho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trengthens neural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mages can be kinaesthetic, auditory and tact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ental rehearsal needs to be done in a relaxed state for 5-10 minutes at a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imulation training is considered more effective than mental imagery in that it replicates the game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Visuo-motor behaviour rehearsal (VMBR) – Requires a relaxed state to perform mental imagery and then conducting the skill under simulated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4 page 322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3213000"/>
            <a:ext cx="8126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Psychological Skills Train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26560" y="4220640"/>
            <a:ext cx="784404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page 321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13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62120" cy="73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3213000"/>
            <a:ext cx="74055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Concent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4360" y="4365720"/>
            <a:ext cx="8061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re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ing on relevant environmental c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ing attention focu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ing awareness of the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. Concentration and attention are used interchangeably in sports psych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be described in terms of width and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-inter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Focus on thoughts and fee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-exter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Focus outwards on an opponent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-inter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Mentally rehearse m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-exter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Focus on very few external c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280360" cy="4680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ntration and Chok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7020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s leading to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tten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on past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’t ‘let things g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orientated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f’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ing on negative aspects of their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c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ro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of cu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ing set rout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-learn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king can also cause concentration to fal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urs when pressure is buil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ot is riding on the next phase of 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s attention to narrow and become in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impair timing and 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ee figure 13.7 p.3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804000" y="4437000"/>
            <a:ext cx="2065320" cy="2065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6877080" y="1773360"/>
            <a:ext cx="1940040" cy="24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8280360" cy="4897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609840" cy="5907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99640" y="151920"/>
            <a:ext cx="80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hoking Proces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213000"/>
            <a:ext cx="74055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Confidence Build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280" y="4292640"/>
            <a:ext cx="80614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Build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6359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confidence is the belief individuals possess in becoming success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fident athle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lieve in themselves and their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hibit positive e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ain calm und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towards their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likely to take risks during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ee fig 13.8 p.3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ing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ieving success at training and during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nking more posi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positive ima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ility to follow and understand game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516720" y="3068640"/>
            <a:ext cx="225576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8208720" cy="4824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99640" y="151920"/>
            <a:ext cx="80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fidence Leve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6 page 326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Psycholog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56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s Psychology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of people’s behaviour in the field of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re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in fields of sport psyc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Psych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Social/personal interactions determine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phys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Physiological effect of the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-behavioural Psych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How an individual’s thoughts affect their behavi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940360" y="2924280"/>
            <a:ext cx="2857680" cy="3671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740720" y="189000"/>
            <a:ext cx="1224000" cy="1211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7740720" y="1916280"/>
            <a:ext cx="1079280" cy="83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eview questions 1-6 page 329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ccff66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chapter questions on page 109-118 of Nels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7289640" y="4581360"/>
            <a:ext cx="1258920" cy="17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ummarised information of pages 116-121 of PHYS ED Notes and complete the revisio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 ED No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209000" y="4365720"/>
            <a:ext cx="1430280" cy="2019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7740720" y="260280"/>
            <a:ext cx="1135080" cy="10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b Links – Chapter 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215" name="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0" y="1562040"/>
                <a:ext cx="9144000" cy="3926880"/>
                <a:chOff x="0" y="1562040"/>
                <a:chExt cx="9144000" cy="39268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0" y="1562040"/>
                  <a:ext cx="9144000" cy="392688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1"/>
                    </a:rPr>
                    <a:t>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3"/>
                    </a:rPr>
                    <a:t>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5"/>
                    </a:rPr>
                    <a:t>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7"/>
                    </a:rPr>
                    <a:t>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9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1"/>
                    </a:rPr>
                    <a:t>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– Introduction (Centre for disease control and prevention – US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2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3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5"/>
                    </a:rPr>
                    <a:t>www.nphp.gov.au/workprog/sigpah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6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8"/>
                    </a:rPr>
                    <a:t>www.cdc.gov/HealthyYouth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9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1"/>
                    </a:rPr>
                    <a:t>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3"/>
                    </a:rPr>
                    <a:t>www.ijbnpa.org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4"/>
                    </a:rPr>
                    <a:t>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5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7"/>
                    </a:rPr>
                    <a:t>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9"/>
                    </a:rPr>
                    <a:t>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1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3"/>
                    </a:rPr>
                    <a:t>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" name="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4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1295280"/>
            <a:ext cx="91440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n Institute of Sport – Performance psychology research: http://www.ais.org.au/psychology/research.as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thletic Insight – online journal of sport psychology: http://www.athleticinsight.c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n Psychological Society (information about sport psychologists): http://www.psychology.org.au/psych/special_areas/2.4_9.as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Psych web – Sport psychology: http://www.psywww.com/sports/index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Sport psychology resrouces (Psychwatch.com): http://www.psychwatch.com/sport_psychology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Sports science library (Gatorade Sports Science Institute): http://www.gssiweb.com/sportssciencecenter/topic.cfm?id=6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Peak performance sports – mental resources: http://www.peaksports.com/tips_resources.ph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ticle – In the zone: Training your mind as well as your body (CNN): http://www.cnn.com/HEALTH/library/SM/00001.htm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77320" y="609588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15417" y="3837"/>
                </a:moveTo>
                <a:lnTo>
                  <a:pt x="17993" y="6448"/>
                </a:ln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lnTo>
                  <a:pt x="22380" y="10800"/>
                </a:lnTo>
                <a:lnTo>
                  <a:pt x="20726" y="10800"/>
                </a:lnTo>
                <a:lnTo>
                  <a:pt x="20726" y="17989"/>
                </a:lnTo>
                <a:lnTo>
                  <a:pt x="10108" y="17989"/>
                </a:lnTo>
                <a:lnTo>
                  <a:pt x="10108" y="10800"/>
                </a:lnTo>
                <a:lnTo>
                  <a:pt x="8454" y="10800"/>
                </a:lnTo>
                <a:close/>
              </a:path>
              <a:path fill="darkenLess" w="30834" h="21600">
                <a:moveTo>
                  <a:pt x="17993" y="6448"/>
                </a:move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close/>
              </a:path>
              <a:path fill="darkenLess" w="30834" h="21600">
                <a:moveTo>
                  <a:pt x="14495" y="14299"/>
                </a:moveTo>
                <a:lnTo>
                  <a:pt x="16340" y="14299"/>
                </a:lnTo>
                <a:lnTo>
                  <a:pt x="16340" y="17989"/>
                </a:lnTo>
                <a:lnTo>
                  <a:pt x="20726" y="17989"/>
                </a:lnTo>
                <a:lnTo>
                  <a:pt x="20726" y="10800"/>
                </a:lnTo>
                <a:lnTo>
                  <a:pt x="10108" y="10800"/>
                </a:lnTo>
                <a:lnTo>
                  <a:pt x="10108" y="17989"/>
                </a:lnTo>
                <a:lnTo>
                  <a:pt x="14495" y="17989"/>
                </a:lnTo>
                <a:close/>
              </a:path>
            </a:pathLst>
          </a:custGeom>
          <a:solidFill>
            <a:srgbClr val="93d5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logical Skills Train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es on cognitive behavioural aspects of sports psych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ychological skills, like physical skills, can be learnt via training (P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T can dramatically improve perform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T programs are individual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; Goal setting, arousal, mental rehearsal, confidence and 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T ha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in stag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What techniques are currently used and being told about other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s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Taught how to use the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t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Use of the technique in training and compet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3213000"/>
            <a:ext cx="74772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Goal Set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4360" y="4149720"/>
            <a:ext cx="78436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Set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al setting is where athletes set down clear targets, priorities and expect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al  setting has been shown to increase work out put up to 40-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als need to be set up for both training and compet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ng term goals aim at the broader target, whereas short term goals provide more manageable focus poi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See Fig 13.2 p.3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goal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come goal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Focus on end results, times, finishing places or med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ormance goal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Focus on comparing present performance levels with those obtained previously. Independent to other competi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goal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Focus on physical movements and game strateg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Setting - SMART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6868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ational Coaching Association has set down the following ‘SMARTER’ way of setting goa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 goals to focu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able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be assessed against previous perform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ed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ptance by the all parties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stic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s need to be within the athlete’s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Phased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date for completion needs to b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iting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d, inspired and rewarding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ed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s should be written down and k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 setting improves performance b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ing attention on important elements of the skill/s being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ating and organising an athlete’s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uraging athlete persev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ing the development of new learn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ining movements and set p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ibuting towards a positive psychologic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225440" cy="122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8351640" cy="4680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62120" cy="73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als (Short and Long Term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tudy 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page 317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13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62120" cy="73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5:59:28Z</dcterms:created>
  <dc:creator>DE&amp;T User</dc:creator>
  <dc:description/>
  <dc:language>en-US</dc:language>
  <cp:lastModifiedBy>DE&amp;T User</cp:lastModifiedBy>
  <dcterms:modified xsi:type="dcterms:W3CDTF">2007-12-12T01:27:42Z</dcterms:modified>
  <cp:revision>131</cp:revision>
  <dc:subject/>
  <dc:title>Unit 4</dc:title>
</cp:coreProperties>
</file>